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F7DA-0EE8-4404-B899-50C8D9F4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4B00-0280-43C5-AC16-2E3F4E70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13F8-6569-4F76-80DF-2DB64A9D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2399-109E-48AF-B9F0-3A7D08C0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4F3E-2742-4F4B-AA73-2A10D7AC9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487C-AC27-4446-9088-5E29C6A5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E729-1DE3-444E-9863-5B07C598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571-3241-41B2-A969-7DB7D9E4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EB88-715F-47B3-82AE-354C18D25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AAFF-4835-45AB-9C81-CBA4216F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FEBB-AE34-4548-8D54-D18A6264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50DB-75CC-4125-8DC5-1FE2A468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7241-8BF6-40EC-BDF4-DACDA7613D6E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ffff"/>
                </a:solidFill>
                <a:latin typeface="Comic Sans MS"/>
              </a:rPr>
              <a:t>OFFICINALI</a:t>
            </a:r>
            <a:endParaRPr b="0" lang="en-US" sz="60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1T10:23:31Z</dcterms:created>
  <dc:creator>Stefano Bona</dc:creator>
  <dc:description/>
  <dc:language>en-US</dc:language>
  <cp:lastModifiedBy>UNO</cp:lastModifiedBy>
  <dcterms:modified xsi:type="dcterms:W3CDTF">2012-05-05T17:51:48Z</dcterms:modified>
  <cp:revision>19</cp:revision>
  <dc:subject/>
  <dc:title>Diapositiva 1</dc:title>
</cp:coreProperties>
</file>